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39C-4FFD-422B-8BBD-710E9EF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0C7-C592-458C-8B47-43854051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23B-D8C8-487D-801D-14902E63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E8B-B49B-4C24-86CD-EE03A5E9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035-02DA-4D5B-8721-3317C52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BD5-451F-4F31-B117-0504E863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6CD-215C-4896-88A7-E9D2EDF5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4C3-9A1E-435F-B4C9-FC7AC5E4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D6D-F996-418A-89F7-D0D4D1BD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C8D-4993-4186-94E1-8143B40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582-6CD6-4FAE-BB99-3AC19BA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9C6-8129-4DB8-A0A6-A5001656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4EB5-3309-485C-BC25-41F536ED8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rans-siberia-tour-three-cities"/>
          <p:cNvPicPr/>
          <p:nvPr/>
        </p:nvPicPr>
        <p:blipFill>
          <a:blip r:embed="rId1"/>
          <a:stretch/>
        </p:blipFill>
        <p:spPr>
          <a:xfrm>
            <a:off x="0" y="-17640"/>
            <a:ext cx="1043928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Berlin Sans FB Demi"/>
              </a:rPr>
              <a:t>Mov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Juice ITC"/>
              </a:rPr>
              <a:t>By: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cc00ff"/>
                </a:solidFill>
                <a:latin typeface="Juice ITC"/>
              </a:rPr>
              <a:t>Alissa Tam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Juice ITC"/>
              </a:rPr>
              <a:t>and</a:t>
            </a:r>
            <a:r>
              <a:rPr b="0" lang="en-US" sz="4800" spc="-1" strike="noStrike">
                <a:solidFill>
                  <a:srgbClr val="cc66ff"/>
                </a:solidFill>
                <a:latin typeface="Juice ITC"/>
              </a:rPr>
              <a:t> </a:t>
            </a:r>
            <a:r>
              <a:rPr b="0" lang="en-US" sz="4800" spc="-1" strike="noStrike">
                <a:solidFill>
                  <a:srgbClr val="66ff33"/>
                </a:solidFill>
                <a:latin typeface="Juice ITC"/>
              </a:rPr>
              <a:t>Bridget Durgin</a:t>
            </a:r>
            <a:r>
              <a:rPr b="0" lang="en-US" sz="4000" spc="-1" strike="noStrike">
                <a:solidFill>
                  <a:srgbClr val="66ff33"/>
                </a:solidFill>
                <a:latin typeface="Juice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auhaus 93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any Russian rivers run from south to north making their use difficult during the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Most ports are covered in snow and 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Goudy Stout"/>
              </a:rPr>
              <a:t>The traders must transport their goods another 200 miles to reach the nearest part of inland Russ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Matura MT Script Capitals"/>
              </a:rPr>
              <a:t>Port Ci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Russia has two important ports called Kaliningrad and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Kaliningrad is located on a small island in the Baltic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’s the only port that stays ice-free the whol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n the summer they have the choice of keeping their goods on the ships to travel 500 miles to St. Petersbur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vie"/>
              </a:rPr>
              <a:t>Railr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vel is the main transportation of Rus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In 1995 Russia had 154,000km of railroads but 26% of them were electr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Railroad traffic dropped since the beginning of the Russian economic reform, making the economy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Kristen ITC"/>
              </a:rPr>
              <a:t>Ai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donation of air service of total travel has dropped to 12.5% by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 number of passengers flying was less then half the 199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Joker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Jokerman"/>
              </a:rPr>
              <a:t>They pay part of air fares and long distance flights between cities accounted for much of the air activity in the early 19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 citizens rely on public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six Russian cities have underground transportation, Moscow, St. Petersburg, Yekaterinburg, Nizhniy, Novgorod, Novosibirsk, and Sama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vehicles require expensive repair and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Alissa Tam</cp:lastModifiedBy>
  <dcterms:modified xsi:type="dcterms:W3CDTF">2010-12-22T23:14:15Z</dcterms:modified>
  <cp:revision>7</cp:revision>
  <dc:subject/>
  <dc:title>Movement</dc:title>
</cp:coreProperties>
</file>